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678-66BD-4190-8DC4-67C60D22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84F-C629-4B9F-BEAA-57E1C358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AD8-4C34-4D53-9668-D86D95A1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269-41CD-4B66-B792-C70033D8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802-DB45-46FB-BC5B-A0D6CD29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A40-CA4B-45A1-B8B4-7A68C1D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3F9-30A4-4684-9EFB-0AD60351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D02-ECA3-406B-86E6-BBE7CA23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961-BBE9-4772-A432-12DBBEEA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193-7CA1-4654-9F8E-CAA59246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652-6F35-4C88-8F0C-94DE873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25E-73CD-4B5B-947B-E6432F1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752A-5A09-4043-B317-E5BD0F261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C:\Users\dwilliams2\AppData\Local\Microsoft\Windows\Temporary Internet Files\Content.IE5\ES5BI6NL\MC900354265[1].wmf"/>
          <p:cNvPicPr/>
          <p:nvPr/>
        </p:nvPicPr>
        <p:blipFill>
          <a:blip r:embed="rId1"/>
          <a:stretch/>
        </p:blipFill>
        <p:spPr>
          <a:xfrm>
            <a:off x="79200" y="152280"/>
            <a:ext cx="6778800" cy="8842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85640" y="2514240"/>
            <a:ext cx="3048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6" descr="C:\Users\dwilliams2\AppData\Local\Microsoft\Windows\Temporary Internet Files\Content.IE5\ES5BI6NL\MC900434461[1].wmf"/>
          <p:cNvPicPr/>
          <p:nvPr/>
        </p:nvPicPr>
        <p:blipFill>
          <a:blip r:embed="rId2"/>
          <a:stretch/>
        </p:blipFill>
        <p:spPr>
          <a:xfrm rot="20231400">
            <a:off x="1323720" y="1692360"/>
            <a:ext cx="18223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Deborah Williams</cp:lastModifiedBy>
  <dcterms:modified xsi:type="dcterms:W3CDTF">2012-10-10T17:45:29Z</dcterms:modified>
  <cp:revision>4</cp:revision>
  <dc:subject/>
  <dc:title>PowerPoint Presentation</dc:title>
</cp:coreProperties>
</file>